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0C673-559A-4848-A72F-704E9E1058C4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ED8E7-4A11-4427-8D11-B49817507094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289D4-1635-403E-9960-1BCF85CC5099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85C75-CE67-410B-873E-1D5479B2C87E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C35F8-16F3-4362-93D0-45E4A70A8350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CBA8-274F-4E42-BD81-32545EC12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0B78-71D2-44A4-84E8-E82DEAD01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88D7-5E41-423B-995E-462018019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51A9-9F37-4C28-ACF7-23DCC21DB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38242-031D-4247-8D66-36B594993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9F4D4-0E66-4C00-B475-7F88C4486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FF33D-F827-448F-A5C5-6548F0F89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DE7C1-5833-451D-9653-D0EE09FAB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4B2CF-C07A-4C66-B050-FB507193E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25E45-170F-4CBB-96D5-90AEC134B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F9233-826A-4486-A6EA-E257FC5B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33D9-6759-4580-99C1-D2EB9F57B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85883-9DCB-45F4-8213-3FB0FB1B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DFF2B-B90E-44F4-85AF-720BBF9E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2F496-EAEC-4CA5-8D75-42D1AC64E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D4BD5-6194-4C90-99AA-DCBF84848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C96C4-5C56-45C3-9766-20BF5FF90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375C3-20A9-45CB-AFA2-54E8DFA59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BFF86-86C8-46B3-80A7-DDAA952C2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46D5F-4259-4EB7-92C8-9CEFC7E78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A1272-05DB-4FFE-888C-46B3A912D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C0E99-7C7D-45EF-B221-0D371A4C4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F38B-9970-4EB0-A842-5B0A203DA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A6391-3857-43B6-A0C8-EED21150F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FD910-3181-4153-9C46-A7439358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08215-5F99-4577-BA58-85F6CD01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F34CD-08B9-44B7-8B3B-2E8BF1F6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A8632-0FC9-4211-AD16-29D20D20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779BD-84D9-47F2-A604-A3CE8CA95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62C5E-23B5-46AC-A3A9-EDB5EC6F5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5718F-4840-4A9D-A271-6F1FC55FD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86288-0EED-40CC-86C9-98DBCBA0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09B4B-E345-47A7-B1D7-61757082D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38C3-8C0F-4371-9045-F02231448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E7516-95C1-40C9-80FF-7A12F9CE3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62A20-0A5C-4786-B150-078438EFA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F5A98-CC63-4CD2-8D88-49F2DC0BE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C2AC1-31A8-4B94-B44F-4463692D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0B9EC-B0A9-4FE5-A70F-9D2009549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706C2-5BA7-4E5B-8165-D00D0756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DBDAB-58C7-48BE-8A49-A0A7CE08D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24BB3-1EFF-47B4-858D-0D10253C2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CA4E8-427E-46DA-B315-E60364BAB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917F-30C6-4099-9CC3-3E4C5C54E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0865-C316-49AE-BB5D-22494281F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4748-039D-4896-B169-6BFFC68E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DF8B-6E29-4095-B33D-418B2EAC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1EAC-D972-439A-A2F0-278AB0C2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8d6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40F94-F8BC-444D-AB31-1BBEFC87B36E}" type="slidenum">
              <a:rPr b="0" lang="en-A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8d6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3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5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8" name="Freeform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" name="Straight Connector 20" descr=""/>
            <p:cNvPicPr/>
            <p:nvPr/>
          </p:nvPicPr>
          <p:blipFill>
            <a:blip r:embed="rId5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33D87-A3B6-4A48-9C94-70681651841F}" type="slidenum">
              <a:rPr b="0" lang="en-A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8d6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0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8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CEEF3-44CB-41C1-9403-65BE6E363A5A}" type="slidenum">
              <a:rPr b="0" lang="en-A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8d6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5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7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60" name="Right Triangle 16" descr=""/>
            <p:cNvPicPr/>
            <p:nvPr/>
          </p:nvPicPr>
          <p:blipFill>
            <a:blip r:embed="rId4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2" name="Straight Connector 18" descr=""/>
          <p:cNvPicPr/>
          <p:nvPr/>
        </p:nvPicPr>
        <p:blipFill>
          <a:blip r:embed="rId5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63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C10EF-A778-45F9-98CF-FB49011304D5}" type="slidenum">
              <a:rPr b="0" lang="en-A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hyperlink" Target="http://www.multiplication.com/flashgames/GrannyPrix.htm" TargetMode="External"/><Relationship Id="rId4" Type="http://schemas.openxmlformats.org/officeDocument/2006/relationships/hyperlink" Target="http://images.google.com/imgres?imgurl=http://ecx.images-amazon.com/images/I/41qj6B7qC1L._SL500_AA280_.jpg&amp;imgrefurl=http://www.amazon.co.uk/Racing-granny-wheelchair-game-scalextrix/dp/B001602AII&amp;usg=__p4E0Ok33XJ_ZqV4XFEx5edvx4_4=&amp;h=280&amp;w=280&amp;sz=13&amp;hl=en&amp;start=2&amp;sig2=lEywJHizQX2aDY51SI5Y7g&amp;um=1&amp;itbs=1&amp;tbnid=HWv2x_tnui-r5M:&amp;tbnh=114&amp;tbnw=114&amp;prev=/images%3Fq%3Dcool%2Bgranny%2Bin%2Bwheelchair%26hl%3Den%26safe%3Dactive%26rls%3Dcom.microsoft:*%26um%3D1&amp;ei=m1wcS9iiOJiekQXrjt29Ag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Title 1" descr=""/>
          <p:cNvPicPr/>
          <p:nvPr/>
        </p:nvPicPr>
        <p:blipFill>
          <a:blip r:embed="rId1"/>
          <a:stretch/>
        </p:blipFill>
        <p:spPr>
          <a:xfrm>
            <a:off x="-6480" y="-633240"/>
            <a:ext cx="304920" cy="852480"/>
          </a:xfrm>
          <a:prstGeom prst="rect">
            <a:avLst/>
          </a:prstGeom>
          <a:ln w="0">
            <a:noFill/>
          </a:ln>
        </p:spPr>
      </p:pic>
      <p:pic>
        <p:nvPicPr>
          <p:cNvPr id="214" name="Rectangle 3" descr=""/>
          <p:cNvPicPr/>
          <p:nvPr/>
        </p:nvPicPr>
        <p:blipFill>
          <a:blip r:embed="rId2"/>
          <a:stretch/>
        </p:blipFill>
        <p:spPr>
          <a:xfrm>
            <a:off x="993600" y="212760"/>
            <a:ext cx="7296480" cy="1493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G:\Students\Teacher to Student\Room  4\2009 PHOTOS\Class pics 09\nick r 010.JPG"/>
          <p:cNvPicPr/>
          <p:nvPr/>
        </p:nvPicPr>
        <p:blipFill>
          <a:blip r:embed="rId3"/>
          <a:srcRect l="14893" t="0" r="14390" b="0"/>
          <a:stretch/>
        </p:blipFill>
        <p:spPr>
          <a:xfrm>
            <a:off x="3000240" y="1785960"/>
            <a:ext cx="3287880" cy="3057480"/>
          </a:xfrm>
          <a:prstGeom prst="rect">
            <a:avLst/>
          </a:prstGeom>
          <a:ln w="0">
            <a:noFill/>
          </a:ln>
        </p:spPr>
      </p:pic>
      <p:pic>
        <p:nvPicPr>
          <p:cNvPr id="216" name="Rectangle 5" descr=""/>
          <p:cNvPicPr/>
          <p:nvPr/>
        </p:nvPicPr>
        <p:blipFill>
          <a:blip r:embed="rId4"/>
          <a:stretch/>
        </p:blipFill>
        <p:spPr>
          <a:xfrm>
            <a:off x="1725480" y="5291280"/>
            <a:ext cx="6328080" cy="1139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Title 1" descr=""/>
          <p:cNvPicPr/>
          <p:nvPr/>
        </p:nvPicPr>
        <p:blipFill>
          <a:blip r:embed="rId1"/>
          <a:stretch/>
        </p:blipFill>
        <p:spPr>
          <a:xfrm>
            <a:off x="-6480" y="-60480"/>
            <a:ext cx="238320" cy="193680"/>
          </a:xfrm>
          <a:prstGeom prst="rect">
            <a:avLst/>
          </a:prstGeom>
          <a:ln w="0">
            <a:noFill/>
          </a:ln>
        </p:spPr>
      </p:pic>
      <p:pic>
        <p:nvPicPr>
          <p:cNvPr id="218" name="Rectangle 2" descr=""/>
          <p:cNvPicPr/>
          <p:nvPr/>
        </p:nvPicPr>
        <p:blipFill>
          <a:blip r:embed="rId2"/>
          <a:stretch/>
        </p:blipFill>
        <p:spPr>
          <a:xfrm>
            <a:off x="1792440" y="96840"/>
            <a:ext cx="5241600" cy="1208160"/>
          </a:xfrm>
          <a:prstGeom prst="rect">
            <a:avLst/>
          </a:prstGeom>
          <a:ln w="0">
            <a:noFill/>
          </a:ln>
        </p:spPr>
      </p:pic>
      <p:sp>
        <p:nvSpPr>
          <p:cNvPr id="219" name="TextBox 3"/>
          <p:cNvSpPr/>
          <p:nvPr/>
        </p:nvSpPr>
        <p:spPr>
          <a:xfrm>
            <a:off x="642960" y="1357200"/>
            <a:ext cx="7643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ff8119"/>
                </a:solidFill>
                <a:uFillTx/>
                <a:latin typeface="Arial"/>
                <a:hlinkClick r:id="rId3"/>
              </a:rPr>
              <a:t>http://www.multiplication.com/flashgames/GrannyPrix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Granny Prix is a multiplication game. The aim of the game is to answer the question the fastest so your granny goes faster.  To play all you have to do is 1</a:t>
            </a:r>
            <a:r>
              <a:rPr b="0" lang="en-AU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customise your granny  and then it is a granny race and you just have to answer the question and try to answer them the fastest to win. It is very fun and funny watching  granny’s racing. I would recommend this game for  age 9-99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http://t2.gstatic.com/images?q=tbn:HWv2x_tnui-r5M:http://ecx.images-amazon.com/images/I/41qj6B7qC1L._SL500_AA280_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001000" y="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Title 1" descr=""/>
          <p:cNvPicPr/>
          <p:nvPr/>
        </p:nvPicPr>
        <p:blipFill>
          <a:blip r:embed="rId1"/>
          <a:stretch/>
        </p:blipFill>
        <p:spPr>
          <a:xfrm>
            <a:off x="-49320" y="-109440"/>
            <a:ext cx="244440" cy="195120"/>
          </a:xfrm>
          <a:prstGeom prst="rect">
            <a:avLst/>
          </a:prstGeom>
          <a:ln w="0">
            <a:noFill/>
          </a:ln>
        </p:spPr>
      </p:pic>
      <p:pic>
        <p:nvPicPr>
          <p:cNvPr id="222" name="Rectangle 3" descr=""/>
          <p:cNvPicPr/>
          <p:nvPr/>
        </p:nvPicPr>
        <p:blipFill>
          <a:blip r:embed="rId2"/>
          <a:stretch/>
        </p:blipFill>
        <p:spPr>
          <a:xfrm>
            <a:off x="128520" y="109440"/>
            <a:ext cx="8972640" cy="1103400"/>
          </a:xfrm>
          <a:prstGeom prst="rect">
            <a:avLst/>
          </a:prstGeom>
          <a:ln w="0">
            <a:noFill/>
          </a:ln>
        </p:spPr>
      </p:pic>
      <p:sp>
        <p:nvSpPr>
          <p:cNvPr id="223" name="TextBox 5"/>
          <p:cNvSpPr/>
          <p:nvPr/>
        </p:nvSpPr>
        <p:spPr>
          <a:xfrm>
            <a:off x="1000080" y="3714840"/>
            <a:ext cx="714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Beyonce Giselle Knowles is a famous singer. She started singing when she was 7 years of age. Beyonce was bourn on the 4</a:t>
            </a:r>
            <a:r>
              <a:rPr b="0" lang="en-AU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of September 1981, she is 28 years old. She was bourn in Houston, Texas. Beyonce is allergic to perfume  so her and Tommy Hilfiger have teamed up to make “True Star” a perfume that captures the essence of an icon.  Her favourite flower is called “bird of paradise” and her favourite ice-cream is butter pecan! Beyonce HATES cooking and has a cat named Master 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5" descr="http://t1.gstatic.com/images?q=tbn:lVS1S5iw7N5VcM:http://www.accesshollywood.com/content/images/96/230x306/96244_beyonce-takes-the-mic-in-madison-square-garden-in-new-york-city-on-june-21-2009.jpg"/>
          <p:cNvPicPr/>
          <p:nvPr/>
        </p:nvPicPr>
        <p:blipFill>
          <a:blip r:embed="rId3"/>
          <a:stretch/>
        </p:blipFill>
        <p:spPr>
          <a:xfrm>
            <a:off x="3286080" y="1000080"/>
            <a:ext cx="207180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Title 1" descr=""/>
          <p:cNvPicPr/>
          <p:nvPr/>
        </p:nvPicPr>
        <p:blipFill>
          <a:blip r:embed="rId1"/>
          <a:stretch/>
        </p:blipFill>
        <p:spPr>
          <a:xfrm>
            <a:off x="-6480" y="-60480"/>
            <a:ext cx="244440" cy="1936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335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KFC"/>
          <p:cNvPicPr/>
          <p:nvPr/>
        </p:nvPicPr>
        <p:blipFill>
          <a:blip r:embed="rId3"/>
          <a:stretch/>
        </p:blipFill>
        <p:spPr>
          <a:xfrm>
            <a:off x="7210440" y="0"/>
            <a:ext cx="1933560" cy="990720"/>
          </a:xfrm>
          <a:prstGeom prst="rect">
            <a:avLst/>
          </a:prstGeom>
          <a:ln w="0">
            <a:noFill/>
          </a:ln>
        </p:spPr>
      </p:pic>
      <p:sp>
        <p:nvSpPr>
          <p:cNvPr id="228" name="TextBox 6"/>
          <p:cNvSpPr/>
          <p:nvPr/>
        </p:nvSpPr>
        <p:spPr>
          <a:xfrm>
            <a:off x="1071720" y="1857240"/>
            <a:ext cx="73580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K.F.C stands for Kentucky Fried Chicken. It originated in Corbin and was opened by Harland Sanders. The first K.F.C. opened in 1930 . Every year K.F.C earns about $2million dollars profit. At the moment K.F.C is owned by Jermaine Higgins . K.F.C. is a very successful busines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Title 1" descr=""/>
          <p:cNvPicPr/>
          <p:nvPr/>
        </p:nvPicPr>
        <p:blipFill>
          <a:blip r:embed="rId1"/>
          <a:stretch/>
        </p:blipFill>
        <p:spPr>
          <a:xfrm>
            <a:off x="-6480" y="-109440"/>
            <a:ext cx="238320" cy="19512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4"/>
          <p:cNvSpPr/>
          <p:nvPr/>
        </p:nvSpPr>
        <p:spPr>
          <a:xfrm>
            <a:off x="0" y="1521720"/>
            <a:ext cx="914400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o are the main characters in the story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Rumpelstiltskin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miller’s daugh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 u="sng">
                <a:solidFill>
                  <a:srgbClr val="000000"/>
                </a:solidFill>
                <a:uFillTx/>
                <a:latin typeface="Comic Sans MS"/>
              </a:rPr>
              <a:t>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ere does the story take place?  </a:t>
            </a:r>
            <a:r>
              <a:rPr b="1" lang="en-AU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Palace</a:t>
            </a:r>
            <a:r>
              <a:rPr b="1" lang="en-AU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is the "magic" in the stor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AU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Rumpelstiltskin turns straw into gol</a:t>
            </a:r>
            <a:r>
              <a:rPr b="0" lang="en-AU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is the good deed happening in the stor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Rumpelstiltskin turns the straw into gold for the miler’s daugh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is the bad or evil deed happening in the stor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Rumpelstiltskin took  the miler’s daughter away from 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re a conflict between any of the characters in the stor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Between the miller’s daughter and Rumpelstiltsk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w is the conflict resolv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The miller’s daughter guessed Rumpelstiltskin’s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2"/>
          <a:stretch/>
        </p:blipFill>
        <p:spPr>
          <a:xfrm>
            <a:off x="1547640" y="328680"/>
            <a:ext cx="596268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9T22:51:44Z</dcterms:created>
  <dc:creator>Education</dc:creator>
  <dc:description/>
  <dc:language>en-US</dc:language>
  <cp:lastModifiedBy>Education</cp:lastModifiedBy>
  <dcterms:modified xsi:type="dcterms:W3CDTF">2009-12-07T01:50:12Z</dcterms:modified>
  <cp:revision>35</cp:revision>
  <dc:subject/>
  <dc:title>Web Quest</dc:title>
</cp:coreProperties>
</file>